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4AF5A7-EC1E-4F55-8325-E479BA421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7B1BC8-56DD-44EA-8D84-4CABF0E03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AF5-9471-48DF-B15D-054FCFA0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E9F-FA8F-4D84-8E4A-515F4E7C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76E-211F-4907-A944-AD15BFF7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F76-27C5-4C02-811D-453A8CE5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8FC6-FC0F-4358-BAF7-6448866C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99F8-5909-45EA-9BC7-4A61E126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7E9F-07AF-4FC7-89F0-17AB2EE5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12D1-DBA8-4A99-9765-12489429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03C0-FD08-42B1-9143-D98C1680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05D8-43B7-40C6-BD3A-240C28CF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8DAE-91B4-4AAF-BD0F-2172471F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C2DD-898A-4077-836C-3AEA272C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DE63-06A3-4B34-A721-7EC1E5C3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8882-649E-42A9-BC6A-1B16F746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1773-BFB7-4316-A2FC-0A2FA055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1BFC-5FC2-4A02-A613-A9916213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6538-EE18-4CA0-9EEC-4415C43C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84AE-A035-4DB8-B0B3-F1115061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315D9-8930-4B62-9CC7-DB1B50E8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83B79-8757-4B37-AA3F-7659A1BF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1B8D5-0635-4784-9D07-B64F1EA4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297C9-DE98-4934-B294-A75A28BA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1AA-D526-486A-91AC-5BC963AA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8D481-D961-4E3E-AA30-C77AD257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C3CD7-A729-411B-92BD-552C8C8B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19BA4-DDD7-43F7-B585-B19224FC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F6A02-DA5A-4A1C-998D-30DF923C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FFE62-B3CD-4752-87D9-FE7D1FDE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5F9CD-DB38-4400-B8BB-50232C3B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16F07-CF35-4A39-B74B-9DC519A1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CF9-FC3C-4C17-BFCB-A6927AB1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97E-116F-4C79-882D-3BEBD47D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24C-0BE3-4DC4-979A-89D03C26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8E49-1F03-4BC0-80BC-7B49AF49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CA5-E1AE-4F60-B43B-73574BC0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30C-FC5E-4428-9359-D78A49B8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4C2E-A58B-41AB-9288-93C3EA053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3D53-946F-4F72-96A1-2706414E08E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200400" y="6171840"/>
            <a:ext cx="36576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4964-7E67-4C43-A280-46753AB15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5"/>
          <p:cNvSpPr/>
          <p:nvPr/>
        </p:nvSpPr>
        <p:spPr>
          <a:xfrm>
            <a:off x="2819520" y="60199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39E5-ECBC-4286-987F-5C4B90F41B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99"/>
                </a:solidFill>
                <a:latin typeface="Tahoma"/>
              </a:rPr>
              <a:t>Working with Diverse Families and Communities 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Tahoma"/>
              </a:rPr>
              <a:t>Day 1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Diversit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1600200" cy="1447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Lead%20Logo-no%20flag-PC"/>
          <p:cNvPicPr/>
          <p:nvPr/>
        </p:nvPicPr>
        <p:blipFill>
          <a:blip r:embed="rId2"/>
          <a:stretch/>
        </p:blipFill>
        <p:spPr>
          <a:xfrm>
            <a:off x="6934320" y="685800"/>
            <a:ext cx="167616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3276720" y="6172200"/>
            <a:ext cx="35049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8905-AAD8-416F-B1A6-165B40536A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ablishing Community Partnersh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se the “Each Teach” strategy, from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Adaptive School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y Garmston and Wellman.  The Each Teach strate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hecks understanding, integrates information,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dentifies ideas that require clarific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artners both read the first text.  Partner A descri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reading to Partner B, as if the other person wa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n the room.  Partner B fills in any gaps that may h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ot been addressed by Partner A.  The partners ed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ach other’s rendition until they agree on what w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a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3124080" y="6248520"/>
            <a:ext cx="34290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EDC6-C4E9-44D0-8EB3-0B18F73148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ablishing Community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 Partnersh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se the excerpts from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Continuity in Early Childhood: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Framework for Home, School, and Community Linkag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able groups should consist of four members.  Throu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use of the Each Teach strategy, the group wi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iscuss each of the topics.  They should be given 2-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inutes to read and 2-3 minutes to complete th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trategy for each of the five sections: 1) Families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artners (page 15); 2) Shared Leadership (pages 27-28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3) Culture and Home Language (pages 53-54, 69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4) Communication (pages 81-82); and 5) Knowledge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kill Development (pages 93-94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3124080" y="6248520"/>
            <a:ext cx="34290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FA64-F923-4800-9368-0650A1EC7D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ablishing Community Partnersh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our group received the Snapshot of a Scho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ake some time to reflect on the data with t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ramework in mind.  Address each of the elem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 complete the evaluation document in t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ramework which, for example, is pages 16-24 of t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amilies as Partners section. Cite evidences from t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napshot of the School.  This may take a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5 minutes.  Groups will share out what they h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und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4"/>
          <p:cNvSpPr/>
          <p:nvPr/>
        </p:nvSpPr>
        <p:spPr>
          <a:xfrm>
            <a:off x="2819520" y="6248520"/>
            <a:ext cx="37335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ED2F-9A6A-415C-BF35-540C9542CF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152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unicating Regularly and Predictably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Communicating the Vision for Partn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Objective: To learn about strategies for incorporating your vision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artnering into your print med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irec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ntinue to work with your partner from the previous activ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ake out both of your school newsletters.  Choose one to focus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valuate your school newsletter using the five elements from </a:t>
            </a: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A Framework for Home, School, and Community Linkages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ialogue about your “ahas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f partnerships with families and community are a part of your schools vision, how is this value communicated in the newslett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How could this newsletter be changed to better communicate the school’s vision for partnership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5"/>
          <p:cNvSpPr/>
          <p:nvPr/>
        </p:nvSpPr>
        <p:spPr>
          <a:xfrm>
            <a:off x="3124080" y="6248520"/>
            <a:ext cx="34290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C2BE-878D-4C7B-90BA-99420B92D5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unicating Regularly and Predictab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nsidering the vision you wrote 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Vision course, does your v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nclude a focus on partnership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How should your print/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edia communicate this vis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16" descr=""/>
          <p:cNvPicPr/>
          <p:nvPr/>
        </p:nvPicPr>
        <p:blipFill>
          <a:blip r:embed="rId1"/>
          <a:stretch/>
        </p:blipFill>
        <p:spPr>
          <a:xfrm>
            <a:off x="6705720" y="3048120"/>
            <a:ext cx="165420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5"/>
          <p:cNvSpPr/>
          <p:nvPr/>
        </p:nvSpPr>
        <p:spPr>
          <a:xfrm>
            <a:off x="3086280" y="6267600"/>
            <a:ext cx="34668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B5BA-4F92-4501-B80D-84CDF63665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ressing Language Diversity in Sch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sing the information that you gathered from yo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chool’s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Schools Accountability Report Card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and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ources as a table group of no more than s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articipants, chart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anguages sp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ays that the school and/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istricts meet these parents’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re values of these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4" descr="j0233018"/>
          <p:cNvPicPr/>
          <p:nvPr/>
        </p:nvPicPr>
        <p:blipFill>
          <a:blip r:embed="rId1"/>
          <a:stretch/>
        </p:blipFill>
        <p:spPr>
          <a:xfrm>
            <a:off x="6629400" y="4038480"/>
            <a:ext cx="186516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4"/>
          <p:cNvSpPr/>
          <p:nvPr/>
        </p:nvSpPr>
        <p:spPr>
          <a:xfrm>
            <a:off x="2895480" y="6172200"/>
            <a:ext cx="36576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8938-B962-46EA-A87B-01997814E2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ddressing Language Diversity in Schoo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orking with your table group, out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steps you would take as a principal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rove communication with variou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s.  Select a spokesperson to sh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th the total group your table’s a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4"/>
          <p:cNvSpPr/>
          <p:nvPr/>
        </p:nvSpPr>
        <p:spPr>
          <a:xfrm>
            <a:off x="3200400" y="6172200"/>
            <a:ext cx="3657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2C70-5EA3-4602-9CC3-CBB11A49DB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ff Meeting Presentation o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Divers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cenar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ou have a diverse middle school campus with twen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ifferent home languages spoken.  Forty percent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our student population is considered English learner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ne half of these students are currently enrolled in 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nglish Learner language arts course in addition to the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anguage arts core program.  A district survey was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o families recently and the data indicate that t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tudents and their parents do not feel they are invol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n a meaningfu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5"/>
          <p:cNvSpPr/>
          <p:nvPr/>
        </p:nvSpPr>
        <p:spPr>
          <a:xfrm>
            <a:off x="3124080" y="6248520"/>
            <a:ext cx="34290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CBFA-A5E2-401C-8C2D-74B10EF5F2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ff Meeting Presentation 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    Diverse Famil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reate an eight-minute presentation that includes PowerPoint that could be used at a staff meeting with the teachers at the school described above.  This presentation should address the needs and a plan to include diverse families at the school sit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ach group of six members may use o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f the computers provi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Keep in mind you have 40 minutes to cre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PowerPoint and the presentation material.  Presentations may include one or more presen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se the provided feedback form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4" descr="pe01561_[1]"/>
          <p:cNvPicPr/>
          <p:nvPr/>
        </p:nvPicPr>
        <p:blipFill>
          <a:blip r:embed="rId1"/>
          <a:stretch/>
        </p:blipFill>
        <p:spPr>
          <a:xfrm>
            <a:off x="6553080" y="3156120"/>
            <a:ext cx="213372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5"/>
          <p:cNvSpPr/>
          <p:nvPr/>
        </p:nvSpPr>
        <p:spPr>
          <a:xfrm>
            <a:off x="2971800" y="6172200"/>
            <a:ext cx="35812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6B14-5212-4082-9721-ACF2E6EEFA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3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eryone particip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ructor will use presentation feedback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group will do one presentation, choices ar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5680" indent="-42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ff development plan on Divers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8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 months – one hour each mon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8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lude classified and certified staf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8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 materials and/or curricul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8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lude specific outc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8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5680" indent="-4294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ent Involvement Pl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olve different parent grou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8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 materials and/or curricul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8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lude specific outc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8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81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2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Picture 4" descr="MPj03998880000[1]"/>
          <p:cNvPicPr/>
          <p:nvPr/>
        </p:nvPicPr>
        <p:blipFill>
          <a:blip r:embed="rId1"/>
          <a:stretch/>
        </p:blipFill>
        <p:spPr>
          <a:xfrm>
            <a:off x="5715000" y="685800"/>
            <a:ext cx="14810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3200400" y="6172200"/>
            <a:ext cx="3657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26FC-D086-4CFC-A140-FBCE7DBA43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22000"/>
            <a:ext cx="7772400" cy="36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emonstrate an understanding of the importance of incorporating the perspectives of families and community members into the decision-making process of the scho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dentify existing gaps in incorporating family and community involve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mplement a plan for addressing needs and capitalizing on strengths of family and community involve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evelop a process for maintaining and assessing communication strateg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Be able to generate new strategies for communicating with families/community me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5"/>
          <p:cNvSpPr/>
          <p:nvPr/>
        </p:nvSpPr>
        <p:spPr>
          <a:xfrm>
            <a:off x="3276720" y="6172200"/>
            <a:ext cx="3657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1A62-3308-43DC-B71D-2674091981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Feedback 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3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43000" y="2057400"/>
          <a:ext cx="7812000" cy="4076640"/>
        </p:xfrm>
        <a:graphic>
          <a:graphicData uri="http://schemas.openxmlformats.org/drawingml/2006/table">
            <a:tbl>
              <a:tblPr/>
              <a:tblGrid>
                <a:gridCol w="1295280"/>
                <a:gridCol w="1371600"/>
                <a:gridCol w="1241640"/>
                <a:gridCol w="182520"/>
                <a:gridCol w="1430280"/>
                <a:gridCol w="1380960"/>
                <a:gridCol w="909720"/>
              </a:tblGrid>
              <a:tr h="2811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Name: 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Instructor: 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Date of Presentation: 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Title of Work: 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Orga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Audience cannot understand presentation because there is no sequence of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Audience has difficulty following presentation because student jumps aroun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presents information in logical sequence which audience can fol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presents information in logical, interesting sequence which audience can fol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ontent 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does not have grasp of information; student cannot answer questions about subjec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is uncomfortable with information and is able to answer only rudimentary ques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is at ease with content, but fails to elabor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demonstrates full knowledge (more than required) with explanations and elabo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3200400" y="6248520"/>
            <a:ext cx="37339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D638-2BB2-4A31-8446-4D70D29F6D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Feedback 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990720" y="2209680"/>
          <a:ext cx="7772400" cy="402444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7080"/>
                <a:gridCol w="1293840"/>
                <a:gridCol w="1712880"/>
                <a:gridCol w="878040"/>
              </a:tblGrid>
              <a:tr h="274680"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Name: 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Instructor: 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Date of Presentation: 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Title of Work: 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Vis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used no visual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occasionally used visuals/charts that rarely support text and present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Visuals/charts related to text and present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used visuals/charts to reinforce screen text and present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Mechan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’s presentation had four or more spelling errors and/or grammatical err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esentation had three misspellings and/or grammatical err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esentation had no more than two misspellings and/or grammatical err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esentation has no misspellings or grammatical err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3124080" y="6095880"/>
            <a:ext cx="35053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2552-75D0-4526-BD47-35BECA26DF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Feedback 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838080" y="2066760"/>
          <a:ext cx="7772400" cy="402912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7080"/>
                <a:gridCol w="1293840"/>
                <a:gridCol w="1865160"/>
                <a:gridCol w="725400"/>
              </a:tblGrid>
              <a:tr h="274320"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Name: 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Instructor: 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Date of Presentation: 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Title of Work: 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Deliv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mumbles, incorrectly pronounces terms, and speaks too quietly for students in back of class to hea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incorrectly pronounces terms.  Audience members have difficulty hearing present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’s voice is clear.  Student pronounces most words correctl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used a clear voice and correct, precise pronunciation of ter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Total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 gridSpan="6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omment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_____________________________________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5"/>
          <p:cNvSpPr/>
          <p:nvPr/>
        </p:nvSpPr>
        <p:spPr>
          <a:xfrm>
            <a:off x="2971800" y="6172200"/>
            <a:ext cx="35812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6A06-A539-42E4-9DB9-CA6AEB5AB5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3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hat Families Wa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Wadsworth and Hamill Remal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no more than two paragraphs on the following promp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should we refocus our energies on redesig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s to fit changing demographic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your response on the Wikispaces, Diverse Families and Communities web si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onal: Respond to your colleague’s contrib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4" descr="MPj03998880000[1]"/>
          <p:cNvPicPr/>
          <p:nvPr/>
        </p:nvPicPr>
        <p:blipFill>
          <a:blip r:embed="rId1"/>
          <a:stretch/>
        </p:blipFill>
        <p:spPr>
          <a:xfrm>
            <a:off x="5715000" y="685800"/>
            <a:ext cx="14810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3200400" y="6172200"/>
            <a:ext cx="3657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E804-A20E-4DAC-884A-625D2C5C05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view of California Professional Standards for Educational Leaders Number Fo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acilitating Parent Involvement and Parent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stablishing Community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mmunicating Regularly and Predicta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ddressing Language Diversity in Sch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reating a PowerPoint presentation on Divers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acticum and Days 9-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5"/>
          <p:cNvSpPr/>
          <p:nvPr/>
        </p:nvSpPr>
        <p:spPr>
          <a:xfrm>
            <a:off x="2895480" y="6248520"/>
            <a:ext cx="3657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0860-DA4F-4738-BCB2-16F2128D46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12680" y="304560"/>
            <a:ext cx="601164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 Number Fou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5400" y="2017800"/>
            <a:ext cx="773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ad CPSELS Standard Four and highlight three or fo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deas that you recognize as being important for the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incipal.  Find a partner across the room that you 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ot know well.  Have a standing discussion, exchan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our ideas from this standa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7" descr="MCj02934980000[1]"/>
          <p:cNvPicPr/>
          <p:nvPr/>
        </p:nvPicPr>
        <p:blipFill>
          <a:blip r:embed="rId1"/>
          <a:stretch/>
        </p:blipFill>
        <p:spPr>
          <a:xfrm>
            <a:off x="3886200" y="2590920"/>
            <a:ext cx="155412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200400" y="6172200"/>
            <a:ext cx="3657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A196-4EC4-4BDF-BF30-586356CAC4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acilitating Parent Involvement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 and Parent Edu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ebrief the two articl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From Fundraising to Hell Rai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How Community Contributes to Achiev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wo sets of questions have been posted around the room.  Your group will be participating in a Carousel, answering the following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How have you invited different cultures to participate at your school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How does your staff ensure that parents feel welcome at your school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How has your school involved parents from different cultures in decision making at your school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200400" y="6172200"/>
            <a:ext cx="3657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9FC1-DF58-428D-908B-EC6D555A75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07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acilitating Parent Invol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and Parent Edu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recorder will write your group’s ideas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chart and at the signal you will move in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ockwise direction to the next chart.  If y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gree with others’ comments/ideas, put a che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ark and add your new ideas.  When you h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visited all three charts you will do a gallery wal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o see what others have writt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ebrief as an entire gro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5"/>
          <p:cNvSpPr/>
          <p:nvPr/>
        </p:nvSpPr>
        <p:spPr>
          <a:xfrm>
            <a:off x="3200400" y="6248520"/>
            <a:ext cx="35812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62D6-688A-4508-9412-F9DF9D9270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ablishing Community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Partnersh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3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ack and stack and sit at a table with f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eople.  A table may have a group of f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eople at each e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4" descr="j0398383[1]"/>
          <p:cNvPicPr/>
          <p:nvPr/>
        </p:nvPicPr>
        <p:blipFill>
          <a:blip r:embed="rId1"/>
          <a:stretch/>
        </p:blipFill>
        <p:spPr>
          <a:xfrm>
            <a:off x="3429000" y="4114800"/>
            <a:ext cx="2971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3124080" y="6248520"/>
            <a:ext cx="34290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C4FC-4DD5-4DEF-B45C-1096124283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ablishing Community Partnersh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 Snapshot of a Sch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Continuity in Early Childhood: A Framework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Home, School, and Community Linkage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cognized in the educational community as 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xemplary resource for developing partn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or all grade levels and scho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3048120" y="6248520"/>
            <a:ext cx="3504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AED6-0F4E-4CEB-B591-5A8A22B09B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ablishing Community Partnersh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document, in its second edition, w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 result of collaboration among t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ministration of Children, Youth, and Famil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ACYF); U.S. Department of Health and Hu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rvices; the Office of Educational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nd Improvement (OERI); U.S. Department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ducation; and the Regional Education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oratories (REL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23:31:02Z</dcterms:created>
  <dc:creator>Kathy Hill</dc:creator>
  <dc:description/>
  <dc:language>en-US</dc:language>
  <cp:lastModifiedBy>John Doe</cp:lastModifiedBy>
  <dcterms:modified xsi:type="dcterms:W3CDTF">2011-05-10T05:06:48Z</dcterms:modified>
  <cp:revision>154</cp:revision>
  <dc:subject/>
  <dc:title>Slide 1</dc:title>
</cp:coreProperties>
</file>